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3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c1477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97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529000" y="2071800"/>
            <a:ext cx="4109760" cy="31464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5" name="Title 20"/>
          <p:cNvSpPr/>
          <p:nvPr/>
        </p:nvSpPr>
        <p:spPr>
          <a:xfrm>
            <a:off x="2697120" y="2448000"/>
            <a:ext cx="3665520" cy="8668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Kalam"/>
                <a:ea typeface="Kalam"/>
              </a:rPr>
              <a:t>Co-ordinating and Subordinating Conjunctions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6" name="Picture 1" descr=""/>
          <p:cNvPicPr/>
          <p:nvPr/>
        </p:nvPicPr>
        <p:blipFill>
          <a:blip r:embed="rId2"/>
          <a:stretch/>
        </p:blipFill>
        <p:spPr>
          <a:xfrm>
            <a:off x="3792600" y="893880"/>
            <a:ext cx="6342120" cy="89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Join each pair of sentences using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,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or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8" name="Content Placeholder 2"/>
          <p:cNvSpPr/>
          <p:nvPr/>
        </p:nvSpPr>
        <p:spPr>
          <a:xfrm>
            <a:off x="1044720" y="226368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Rg"/>
              </a:rPr>
              <a:t>I don’t visit the library very much. I do like reading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9" name="Content Placeholder 2"/>
          <p:cNvSpPr/>
          <p:nvPr/>
        </p:nvSpPr>
        <p:spPr>
          <a:xfrm>
            <a:off x="1044720" y="27018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I don’t visit the library very much </a:t>
            </a: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but</a:t>
            </a: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I do like reading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0" name="Content Placeholder 2"/>
          <p:cNvSpPr/>
          <p:nvPr/>
        </p:nvSpPr>
        <p:spPr>
          <a:xfrm>
            <a:off x="1044720" y="34830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Rg"/>
              </a:rPr>
              <a:t>The horse was spooked. It kicked out in fright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1" name="Content Placeholder 2"/>
          <p:cNvSpPr/>
          <p:nvPr/>
        </p:nvSpPr>
        <p:spPr>
          <a:xfrm>
            <a:off x="1044720" y="392112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The horse was spooked </a:t>
            </a: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so</a:t>
            </a: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it kicked out in fright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2" name="Content Placeholder 2"/>
          <p:cNvSpPr/>
          <p:nvPr/>
        </p:nvSpPr>
        <p:spPr>
          <a:xfrm>
            <a:off x="1044720" y="470232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Rg"/>
              </a:rPr>
              <a:t>Mary climbed the ladder. She got into her top bunk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3" name="Content Placeholder 2"/>
          <p:cNvSpPr/>
          <p:nvPr/>
        </p:nvSpPr>
        <p:spPr>
          <a:xfrm>
            <a:off x="1044720" y="514044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Mary climbed the ladder </a:t>
            </a: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she got into her top bunk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Use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ubordinating conjunc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from the list to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add to 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each subordinate claus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6" name="Content Placeholder 2"/>
          <p:cNvSpPr/>
          <p:nvPr/>
        </p:nvSpPr>
        <p:spPr>
          <a:xfrm>
            <a:off x="755640" y="3186000"/>
            <a:ext cx="7632720" cy="4366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you start to feel sleepy, you should open the car window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7" name="Content Placeholder 2"/>
          <p:cNvSpPr/>
          <p:nvPr/>
        </p:nvSpPr>
        <p:spPr>
          <a:xfrm>
            <a:off x="755640" y="390852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the lights had turned green, the car stood still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8" name="Content Placeholder 2"/>
          <p:cNvSpPr/>
          <p:nvPr/>
        </p:nvSpPr>
        <p:spPr>
          <a:xfrm>
            <a:off x="755640" y="463068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The dog barked loudly ____________ it heard an intruder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9" name="Content Placeholder 2"/>
          <p:cNvSpPr/>
          <p:nvPr/>
        </p:nvSpPr>
        <p:spPr>
          <a:xfrm>
            <a:off x="755640" y="53532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we began swimming lessons, I have become lots mor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confident in the water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0" name="Rounded Rectangle 25"/>
          <p:cNvSpPr/>
          <p:nvPr/>
        </p:nvSpPr>
        <p:spPr>
          <a:xfrm>
            <a:off x="2271600" y="2139840"/>
            <a:ext cx="45910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Md"/>
              </a:rPr>
              <a:t>although    if    because    sinc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1" name="Content Placeholder 2"/>
          <p:cNvSpPr/>
          <p:nvPr/>
        </p:nvSpPr>
        <p:spPr>
          <a:xfrm>
            <a:off x="755640" y="318600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If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2" name="Content Placeholder 2"/>
          <p:cNvSpPr/>
          <p:nvPr/>
        </p:nvSpPr>
        <p:spPr>
          <a:xfrm>
            <a:off x="755640" y="3908520"/>
            <a:ext cx="1515960" cy="48564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Although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3" name="Content Placeholder 2"/>
          <p:cNvSpPr/>
          <p:nvPr/>
        </p:nvSpPr>
        <p:spPr>
          <a:xfrm>
            <a:off x="3152880" y="463068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becaus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4" name="Content Placeholder 2"/>
          <p:cNvSpPr/>
          <p:nvPr/>
        </p:nvSpPr>
        <p:spPr>
          <a:xfrm>
            <a:off x="755640" y="5353200"/>
            <a:ext cx="1515960" cy="48564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Sinc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5" name=""/>
          <p:cNvGraphicFramePr/>
          <p:nvPr/>
        </p:nvGraphicFramePr>
        <p:xfrm>
          <a:off x="812880" y="2624040"/>
          <a:ext cx="7507080" cy="2913120"/>
        </p:xfrm>
        <a:graphic>
          <a:graphicData uri="http://schemas.openxmlformats.org/drawingml/2006/table">
            <a:tbl>
              <a:tblPr/>
              <a:tblGrid>
                <a:gridCol w="2502000"/>
                <a:gridCol w="2503440"/>
                <a:gridCol w="250164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Preposi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Subordinating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Conjunc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I didn’t learn to drive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unti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I bought my new car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Until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Danny scored the goal, the team looked hopeless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The wolves didn’t stop howling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until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midnight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Put a tick in each row to show whether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until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is being used as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ubordinating conjunction</a:t>
            </a:r>
            <a:r>
              <a:rPr b="1" lang="en-GB" sz="18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or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preposi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38" name="Picture 6" descr=""/>
          <p:cNvPicPr/>
          <p:nvPr/>
        </p:nvPicPr>
        <p:blipFill>
          <a:blip r:embed="rId1"/>
          <a:stretch/>
        </p:blipFill>
        <p:spPr>
          <a:xfrm>
            <a:off x="6867360" y="345924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5" descr=""/>
          <p:cNvPicPr/>
          <p:nvPr/>
        </p:nvPicPr>
        <p:blipFill>
          <a:blip r:embed="rId2"/>
          <a:stretch/>
        </p:blipFill>
        <p:spPr>
          <a:xfrm>
            <a:off x="4321080" y="4965840"/>
            <a:ext cx="492120" cy="4251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"/>
          <p:cNvPicPr/>
          <p:nvPr/>
        </p:nvPicPr>
        <p:blipFill>
          <a:blip r:embed="rId3"/>
          <a:stretch/>
        </p:blipFill>
        <p:spPr>
          <a:xfrm>
            <a:off x="6867360" y="4208400"/>
            <a:ext cx="4921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" descr=""/>
          <p:cNvPicPr/>
          <p:nvPr/>
        </p:nvPicPr>
        <p:blipFill>
          <a:blip r:embed="rId1"/>
          <a:stretch/>
        </p:blipFill>
        <p:spPr>
          <a:xfrm>
            <a:off x="2481120" y="1025640"/>
            <a:ext cx="4938840" cy="5416560"/>
          </a:xfrm>
          <a:prstGeom prst="rect">
            <a:avLst/>
          </a:prstGeom>
          <a:ln w="0">
            <a:noFill/>
          </a:ln>
        </p:spPr>
      </p:pic>
      <p:sp>
        <p:nvSpPr>
          <p:cNvPr id="742" name="Title 20"/>
          <p:cNvSpPr/>
          <p:nvPr/>
        </p:nvSpPr>
        <p:spPr>
          <a:xfrm>
            <a:off x="2655720" y="1698480"/>
            <a:ext cx="3770640" cy="8668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c1c1c"/>
                </a:solidFill>
                <a:latin typeface="Kalam"/>
                <a:ea typeface="Kalam"/>
              </a:rPr>
              <a:t>Are you feeling confident</a:t>
            </a:r>
            <a:br>
              <a:rPr sz="2200"/>
            </a:br>
            <a:r>
              <a:rPr b="1" lang="en-GB" sz="2200" spc="-1" strike="noStrike">
                <a:solidFill>
                  <a:srgbClr val="1c1c1c"/>
                </a:solidFill>
                <a:latin typeface="Kalam"/>
                <a:ea typeface="Kalam"/>
              </a:rPr>
              <a:t>with co-ordinating and subordinating conjunctions?</a:t>
            </a:r>
            <a:endParaRPr b="0" lang="en-US" sz="2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Co-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8" name="Rounded Rectangle 2"/>
          <p:cNvSpPr/>
          <p:nvPr/>
        </p:nvSpPr>
        <p:spPr>
          <a:xfrm>
            <a:off x="828720" y="147312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Conjunctions are words tha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link together clause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There ar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two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ypes of conjunction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828720" y="216684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Co-ordinating conjunction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link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main clause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together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to form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compound sentence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457200" y="30686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 was scorching. We wore our hat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Title 1"/>
          <p:cNvSpPr/>
          <p:nvPr/>
        </p:nvSpPr>
        <p:spPr>
          <a:xfrm>
            <a:off x="457200" y="424800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 was scorching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o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we wore our hat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cxnSp>
        <p:nvCxnSpPr>
          <p:cNvPr id="632" name="Straight Arrow Connector 5"/>
          <p:cNvCxnSpPr/>
          <p:nvPr/>
        </p:nvCxnSpPr>
        <p:spPr>
          <a:xfrm>
            <a:off x="4571640" y="3936960"/>
            <a:ext cx="1080" cy="62100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 rot="870000">
            <a:off x="7240320" y="5168520"/>
            <a:ext cx="17334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Co-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5" name="Rounded Rectangle 9"/>
          <p:cNvSpPr/>
          <p:nvPr/>
        </p:nvSpPr>
        <p:spPr>
          <a:xfrm>
            <a:off x="917640" y="14731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You can easily remember all the co-ordinating conjunctions by using the acronym </a:t>
            </a:r>
            <a:r>
              <a:rPr b="1" lang="en-GB" sz="1600" spc="-1" strike="noStrike">
                <a:solidFill>
                  <a:srgbClr val="ffffff"/>
                </a:solidFill>
                <a:latin typeface="Sassoon Infant Md"/>
              </a:rPr>
              <a:t>FANBOY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1336680" y="2619360"/>
            <a:ext cx="6464160" cy="28177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3629160" y="4676760"/>
            <a:ext cx="16938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Co-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9" name="Title 1"/>
          <p:cNvSpPr/>
          <p:nvPr/>
        </p:nvSpPr>
        <p:spPr>
          <a:xfrm>
            <a:off x="743040" y="147168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love to read fiction book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0" name="Title 1"/>
          <p:cNvSpPr/>
          <p:nvPr/>
        </p:nvSpPr>
        <p:spPr>
          <a:xfrm>
            <a:off x="746280" y="2135160"/>
            <a:ext cx="46083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dog jumped up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1" name="Title 1"/>
          <p:cNvSpPr/>
          <p:nvPr/>
        </p:nvSpPr>
        <p:spPr>
          <a:xfrm>
            <a:off x="733320" y="2800440"/>
            <a:ext cx="460872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don’t like sprout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2" name="Title 1"/>
          <p:cNvSpPr/>
          <p:nvPr/>
        </p:nvSpPr>
        <p:spPr>
          <a:xfrm>
            <a:off x="795240" y="3463920"/>
            <a:ext cx="460872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My brother wants a dog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587520" y="4127400"/>
            <a:ext cx="460980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might order a pizza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4" name="Title 1"/>
          <p:cNvSpPr/>
          <p:nvPr/>
        </p:nvSpPr>
        <p:spPr>
          <a:xfrm>
            <a:off x="950760" y="4792680"/>
            <a:ext cx="46101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oey ran as fast as he could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411120" y="5456160"/>
            <a:ext cx="46101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saw a massive spide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6" name="Title 1"/>
          <p:cNvSpPr/>
          <p:nvPr/>
        </p:nvSpPr>
        <p:spPr>
          <a:xfrm>
            <a:off x="4086360" y="1471680"/>
            <a:ext cx="460980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fo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like a good stor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7" name="Title 1"/>
          <p:cNvSpPr/>
          <p:nvPr/>
        </p:nvSpPr>
        <p:spPr>
          <a:xfrm>
            <a:off x="3571920" y="2135160"/>
            <a:ext cx="46083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nd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he began to bark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8" name="Title 1"/>
          <p:cNvSpPr/>
          <p:nvPr/>
        </p:nvSpPr>
        <p:spPr>
          <a:xfrm>
            <a:off x="3400560" y="280044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no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do I like carrot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9" name="Title 1"/>
          <p:cNvSpPr/>
          <p:nvPr/>
        </p:nvSpPr>
        <p:spPr>
          <a:xfrm>
            <a:off x="3768840" y="346392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ut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’d prefer a cat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0" name="Title 1"/>
          <p:cNvSpPr/>
          <p:nvPr/>
        </p:nvSpPr>
        <p:spPr>
          <a:xfrm>
            <a:off x="3605040" y="4127400"/>
            <a:ext cx="460872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o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might get a burger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1" name="Title 1"/>
          <p:cNvSpPr/>
          <p:nvPr/>
        </p:nvSpPr>
        <p:spPr>
          <a:xfrm>
            <a:off x="4280040" y="479268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yet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Jill won the race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2" name="Title 1"/>
          <p:cNvSpPr/>
          <p:nvPr/>
        </p:nvSpPr>
        <p:spPr>
          <a:xfrm>
            <a:off x="3867120" y="5456160"/>
            <a:ext cx="46101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o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hurtled out of the room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4" name="Title 1"/>
          <p:cNvSpPr/>
          <p:nvPr/>
        </p:nvSpPr>
        <p:spPr>
          <a:xfrm>
            <a:off x="20520" y="36482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e managed to reach the summit of the mountain although suffering from frostbit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5" name="Rounded Rectangle 9"/>
          <p:cNvSpPr/>
          <p:nvPr/>
        </p:nvSpPr>
        <p:spPr>
          <a:xfrm>
            <a:off x="985680" y="1473120"/>
            <a:ext cx="7162920" cy="13366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connects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ain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and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e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subordinate clause i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ependen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n the main clause because i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oesn’t make sense on its ow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When main clauses and subordinate clauses are used together to form a sentence, it is called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complex sentenc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cxnSp>
        <p:nvCxnSpPr>
          <p:cNvPr id="656" name="Straight Arrow Connector 12"/>
          <p:cNvCxnSpPr/>
          <p:nvPr/>
        </p:nvCxnSpPr>
        <p:spPr>
          <a:xfrm>
            <a:off x="4638240" y="4722840"/>
            <a:ext cx="1080" cy="31788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cxnSp>
        <p:nvCxnSpPr>
          <p:cNvPr id="657" name="Straight Arrow Connector 13"/>
          <p:cNvCxnSpPr/>
          <p:nvPr/>
        </p:nvCxnSpPr>
        <p:spPr>
          <a:xfrm flipV="1">
            <a:off x="3928680" y="3385440"/>
            <a:ext cx="1080" cy="337320"/>
          </a:xfrm>
          <a:prstGeom prst="straightConnector1">
            <a:avLst/>
          </a:prstGeom>
          <a:ln w="54000">
            <a:solidFill>
              <a:srgbClr val="35cbc2"/>
            </a:solidFill>
            <a:miter/>
            <a:tailEnd len="med" type="triangle" w="med"/>
          </a:ln>
        </p:spPr>
      </p:cxnSp>
      <p:sp>
        <p:nvSpPr>
          <p:cNvPr id="658" name="Title 1"/>
          <p:cNvSpPr/>
          <p:nvPr/>
        </p:nvSpPr>
        <p:spPr>
          <a:xfrm>
            <a:off x="3139920" y="2928960"/>
            <a:ext cx="1578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ain clause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9" name="Title 1"/>
          <p:cNvSpPr/>
          <p:nvPr/>
        </p:nvSpPr>
        <p:spPr>
          <a:xfrm>
            <a:off x="985680" y="4967280"/>
            <a:ext cx="693612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ordinate clause beginning with the subordinating conjunction ‘although’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60" name="Picture 14" descr=""/>
          <p:cNvPicPr/>
          <p:nvPr/>
        </p:nvPicPr>
        <p:blipFill>
          <a:blip r:embed="rId1"/>
          <a:stretch/>
        </p:blipFill>
        <p:spPr>
          <a:xfrm>
            <a:off x="5354640" y="4889520"/>
            <a:ext cx="3825720" cy="1996920"/>
          </a:xfrm>
          <a:prstGeom prst="rect">
            <a:avLst/>
          </a:prstGeom>
          <a:ln w="0">
            <a:noFill/>
          </a:ln>
        </p:spPr>
      </p:pic>
      <p:sp>
        <p:nvSpPr>
          <p:cNvPr id="661" name="Title 1"/>
          <p:cNvSpPr/>
          <p:nvPr/>
        </p:nvSpPr>
        <p:spPr>
          <a:xfrm>
            <a:off x="20520" y="36482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He managed to reach the summit of the mountain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although suffering from frostbit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ounded Rectangle 2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Here is a list of commonly use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560520" y="2344680"/>
            <a:ext cx="8015040" cy="3718080"/>
            <a:chOff x="560520" y="2344680"/>
            <a:chExt cx="8015040" cy="3718080"/>
          </a:xfrm>
        </p:grpSpPr>
        <p:grpSp>
          <p:nvGrpSpPr>
            <p:cNvPr id="665" name="Group 3"/>
            <p:cNvGrpSpPr/>
            <p:nvPr/>
          </p:nvGrpSpPr>
          <p:grpSpPr>
            <a:xfrm>
              <a:off x="560520" y="2344680"/>
              <a:ext cx="1278360" cy="3718080"/>
              <a:chOff x="560520" y="2344680"/>
              <a:chExt cx="1278360" cy="3718080"/>
            </a:xfrm>
          </p:grpSpPr>
          <p:sp>
            <p:nvSpPr>
              <p:cNvPr id="666" name="Oval 69"/>
              <p:cNvSpPr/>
              <p:nvPr/>
            </p:nvSpPr>
            <p:spPr>
              <a:xfrm>
                <a:off x="5605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after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7" name="Oval 19"/>
              <p:cNvSpPr/>
              <p:nvPr/>
            </p:nvSpPr>
            <p:spPr>
              <a:xfrm>
                <a:off x="5605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whil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8" name="Oval 20"/>
              <p:cNvSpPr/>
              <p:nvPr/>
            </p:nvSpPr>
            <p:spPr>
              <a:xfrm>
                <a:off x="5605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whether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69" name="Group 47"/>
            <p:cNvGrpSpPr/>
            <p:nvPr/>
          </p:nvGrpSpPr>
          <p:grpSpPr>
            <a:xfrm>
              <a:off x="1907640" y="2344680"/>
              <a:ext cx="1278360" cy="3718080"/>
              <a:chOff x="1907640" y="2344680"/>
              <a:chExt cx="1278360" cy="3718080"/>
            </a:xfrm>
          </p:grpSpPr>
          <p:sp>
            <p:nvSpPr>
              <p:cNvPr id="670" name="Oval 48"/>
              <p:cNvSpPr/>
              <p:nvPr/>
            </p:nvSpPr>
            <p:spPr>
              <a:xfrm>
                <a:off x="190764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though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1" name="Oval 49"/>
              <p:cNvSpPr/>
              <p:nvPr/>
            </p:nvSpPr>
            <p:spPr>
              <a:xfrm>
                <a:off x="190764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provided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2" name="Oval 50"/>
              <p:cNvSpPr/>
              <p:nvPr/>
            </p:nvSpPr>
            <p:spPr>
              <a:xfrm>
                <a:off x="190764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less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73" name="Group 51"/>
            <p:cNvGrpSpPr/>
            <p:nvPr/>
          </p:nvGrpSpPr>
          <p:grpSpPr>
            <a:xfrm>
              <a:off x="3255120" y="2344680"/>
              <a:ext cx="1278360" cy="3718080"/>
              <a:chOff x="3255120" y="2344680"/>
              <a:chExt cx="1278360" cy="3718080"/>
            </a:xfrm>
          </p:grpSpPr>
          <p:sp>
            <p:nvSpPr>
              <p:cNvPr id="674" name="Oval 52"/>
              <p:cNvSpPr/>
              <p:nvPr/>
            </p:nvSpPr>
            <p:spPr>
              <a:xfrm>
                <a:off x="32551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because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5" name="Oval 53"/>
              <p:cNvSpPr/>
              <p:nvPr/>
            </p:nvSpPr>
            <p:spPr>
              <a:xfrm>
                <a:off x="32551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Sassoon Infant Rg"/>
                  </a:rPr>
                  <a:t>if</a:t>
                </a:r>
                <a:endParaRPr b="0" lang="en-US" sz="24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6" name="Oval 54"/>
              <p:cNvSpPr/>
              <p:nvPr/>
            </p:nvSpPr>
            <p:spPr>
              <a:xfrm>
                <a:off x="32551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although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77" name="Group 55"/>
            <p:cNvGrpSpPr/>
            <p:nvPr/>
          </p:nvGrpSpPr>
          <p:grpSpPr>
            <a:xfrm>
              <a:off x="4602600" y="2344680"/>
              <a:ext cx="1278360" cy="3718080"/>
              <a:chOff x="4602600" y="2344680"/>
              <a:chExt cx="1278360" cy="3718080"/>
            </a:xfrm>
          </p:grpSpPr>
          <p:sp>
            <p:nvSpPr>
              <p:cNvPr id="678" name="Oval 56"/>
              <p:cNvSpPr/>
              <p:nvPr/>
            </p:nvSpPr>
            <p:spPr>
              <a:xfrm>
                <a:off x="460260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o that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9" name="Oval 57"/>
              <p:cNvSpPr/>
              <p:nvPr/>
            </p:nvSpPr>
            <p:spPr>
              <a:xfrm>
                <a:off x="460260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i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0" name="Oval 58"/>
              <p:cNvSpPr/>
              <p:nvPr/>
            </p:nvSpPr>
            <p:spPr>
              <a:xfrm>
                <a:off x="460260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when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81" name="Group 59"/>
            <p:cNvGrpSpPr/>
            <p:nvPr/>
          </p:nvGrpSpPr>
          <p:grpSpPr>
            <a:xfrm>
              <a:off x="5949720" y="2344680"/>
              <a:ext cx="1278360" cy="3718080"/>
              <a:chOff x="5949720" y="2344680"/>
              <a:chExt cx="1278360" cy="3718080"/>
            </a:xfrm>
          </p:grpSpPr>
          <p:sp>
            <p:nvSpPr>
              <p:cNvPr id="682" name="Oval 60"/>
              <p:cNvSpPr/>
              <p:nvPr/>
            </p:nvSpPr>
            <p:spPr>
              <a:xfrm>
                <a:off x="59497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befor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3" name="Oval 61"/>
              <p:cNvSpPr/>
              <p:nvPr/>
            </p:nvSpPr>
            <p:spPr>
              <a:xfrm>
                <a:off x="59497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o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4" name="Oval 62"/>
              <p:cNvSpPr/>
              <p:nvPr/>
            </p:nvSpPr>
            <p:spPr>
              <a:xfrm>
                <a:off x="59497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Sassoon Infant Rg"/>
                  </a:rPr>
                  <a:t>as</a:t>
                </a:r>
                <a:endParaRPr b="0" lang="en-US" sz="24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85" name="Group 63"/>
            <p:cNvGrpSpPr/>
            <p:nvPr/>
          </p:nvGrpSpPr>
          <p:grpSpPr>
            <a:xfrm>
              <a:off x="7297200" y="2344680"/>
              <a:ext cx="1278360" cy="2342160"/>
              <a:chOff x="7297200" y="2344680"/>
              <a:chExt cx="1278360" cy="2342160"/>
            </a:xfrm>
          </p:grpSpPr>
          <p:sp>
            <p:nvSpPr>
              <p:cNvPr id="686" name="Oval 64"/>
              <p:cNvSpPr/>
              <p:nvPr/>
            </p:nvSpPr>
            <p:spPr>
              <a:xfrm>
                <a:off x="7297200" y="2344680"/>
                <a:ext cx="1278360" cy="96552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til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7" name="Oval 65"/>
              <p:cNvSpPr/>
              <p:nvPr/>
            </p:nvSpPr>
            <p:spPr>
              <a:xfrm>
                <a:off x="7297200" y="3721320"/>
                <a:ext cx="1278360" cy="96552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eve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though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</p:grpSp>
      <p:pic>
        <p:nvPicPr>
          <p:cNvPr id="688" name="Picture 25" descr=""/>
          <p:cNvPicPr/>
          <p:nvPr/>
        </p:nvPicPr>
        <p:blipFill>
          <a:blip r:embed="rId1"/>
          <a:stretch/>
        </p:blipFill>
        <p:spPr>
          <a:xfrm>
            <a:off x="7504200" y="4815000"/>
            <a:ext cx="16398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0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1" name="Rounded Rectangle 18"/>
          <p:cNvSpPr/>
          <p:nvPr/>
        </p:nvSpPr>
        <p:spPr>
          <a:xfrm>
            <a:off x="917640" y="19699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n the sentences we’ve looked at so far, the subordinate conjunctions have been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fter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he main clause 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457200" y="3451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ackson got changed into his superhero costume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cause he was going to the part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e wore his pants over his trousers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even though it looked silly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3" name="Rounded Rectangle 22"/>
          <p:cNvSpPr/>
          <p:nvPr/>
        </p:nvSpPr>
        <p:spPr>
          <a:xfrm>
            <a:off x="917640" y="516564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ubordinate conjunctions don’t always have to be after the main clause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ometimes they can be the first word in a sentenc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94" name="Picture 1" descr=""/>
          <p:cNvPicPr/>
          <p:nvPr/>
        </p:nvPicPr>
        <p:blipFill>
          <a:blip r:embed="rId1"/>
          <a:stretch/>
        </p:blipFill>
        <p:spPr>
          <a:xfrm>
            <a:off x="7248600" y="3662280"/>
            <a:ext cx="1428840" cy="2087640"/>
          </a:xfrm>
          <a:prstGeom prst="rect">
            <a:avLst/>
          </a:prstGeom>
          <a:ln w="0">
            <a:noFill/>
          </a:ln>
        </p:spPr>
      </p:pic>
      <p:sp>
        <p:nvSpPr>
          <p:cNvPr id="695" name="Title 1"/>
          <p:cNvSpPr/>
          <p:nvPr/>
        </p:nvSpPr>
        <p:spPr>
          <a:xfrm>
            <a:off x="457200" y="3451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ackson got changed into his superhero costume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ecause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he was going to the part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e wore his pants over his trousers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even though it looked silly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6665760" y="3255840"/>
            <a:ext cx="1460520" cy="23576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8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9" name="Title 1"/>
          <p:cNvSpPr/>
          <p:nvPr/>
        </p:nvSpPr>
        <p:spPr>
          <a:xfrm>
            <a:off x="457200" y="33717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Despite the weather being col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flower grew very tall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s the volcano erupte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villagers ran for their live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0" name="Rounded Rectangle 22"/>
          <p:cNvSpPr/>
          <p:nvPr/>
        </p:nvSpPr>
        <p:spPr>
          <a:xfrm>
            <a:off x="917640" y="516564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When we use a subordinate conjunction at the beginning of a sentence, we mus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dd a comma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t the end of the subordinate clause before the main claus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1" name="Rounded Rectangle 7"/>
          <p:cNvSpPr/>
          <p:nvPr/>
        </p:nvSpPr>
        <p:spPr>
          <a:xfrm>
            <a:off x="828720" y="196992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Look at these sentences where the subordinate conjunction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ope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he sentence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2" name="Title 1"/>
          <p:cNvSpPr/>
          <p:nvPr/>
        </p:nvSpPr>
        <p:spPr>
          <a:xfrm>
            <a:off x="457200" y="33717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Despite the weather being col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flower grew very tall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s the volcano erupte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villagers ran for their live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ounded Rectangle 11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ome subordinate conjunction words can also b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preposi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704" name="Group 2"/>
          <p:cNvGrpSpPr/>
          <p:nvPr/>
        </p:nvGrpSpPr>
        <p:grpSpPr>
          <a:xfrm>
            <a:off x="914400" y="2378160"/>
            <a:ext cx="7305840" cy="568080"/>
            <a:chOff x="914400" y="2378160"/>
            <a:chExt cx="7305840" cy="568080"/>
          </a:xfrm>
        </p:grpSpPr>
        <p:sp>
          <p:nvSpPr>
            <p:cNvPr id="705" name="Oval 28"/>
            <p:cNvSpPr/>
            <p:nvPr/>
          </p:nvSpPr>
          <p:spPr>
            <a:xfrm>
              <a:off x="91440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afte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6" name="Oval 26"/>
            <p:cNvSpPr/>
            <p:nvPr/>
          </p:nvSpPr>
          <p:spPr>
            <a:xfrm>
              <a:off x="245268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befor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7" name="Oval 24"/>
            <p:cNvSpPr/>
            <p:nvPr/>
          </p:nvSpPr>
          <p:spPr>
            <a:xfrm>
              <a:off x="399096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until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8" name="Oval 22"/>
            <p:cNvSpPr/>
            <p:nvPr/>
          </p:nvSpPr>
          <p:spPr>
            <a:xfrm>
              <a:off x="552924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as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9" name="Oval 29"/>
            <p:cNvSpPr/>
            <p:nvPr/>
          </p:nvSpPr>
          <p:spPr>
            <a:xfrm>
              <a:off x="706788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sinc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710" name="Title 1"/>
          <p:cNvSpPr/>
          <p:nvPr/>
        </p:nvSpPr>
        <p:spPr>
          <a:xfrm>
            <a:off x="457200" y="285768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fter</a:t>
            </a:r>
            <a:r>
              <a:rPr b="0" lang="en-GB" sz="2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he returned from holiday, George unpacked his suitcase. </a:t>
            </a:r>
            <a:endParaRPr b="0" lang="en-US" sz="2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1" name="Title 1"/>
          <p:cNvSpPr/>
          <p:nvPr/>
        </p:nvSpPr>
        <p:spPr>
          <a:xfrm>
            <a:off x="457200" y="3570120"/>
            <a:ext cx="8220240" cy="473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760" bIns="19476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14779"/>
                </a:solidFill>
                <a:latin typeface="Sassoon Infant Rg"/>
                <a:ea typeface="Sassoon Infant Rg"/>
              </a:rPr>
              <a:t>In this example ‘after’ is used as a subordinating conjunction to form a subordinate clause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2" name="Rounded Rectangle 35"/>
          <p:cNvSpPr/>
          <p:nvPr/>
        </p:nvSpPr>
        <p:spPr>
          <a:xfrm>
            <a:off x="917640" y="5232240"/>
            <a:ext cx="7299360" cy="7606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is can be very confusing! If the word is within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group of words that contains a subject and a verb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then it is usually being used as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3" name="Title 1"/>
          <p:cNvSpPr/>
          <p:nvPr/>
        </p:nvSpPr>
        <p:spPr>
          <a:xfrm>
            <a:off x="457200" y="37623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e have a maths lesson </a:t>
            </a:r>
            <a:r>
              <a:rPr b="0" lang="en-GB" sz="22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fter</a:t>
            </a:r>
            <a:r>
              <a:rPr b="0" lang="en-GB" sz="2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lunch.</a:t>
            </a:r>
            <a:endParaRPr b="0" lang="en-US" sz="2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4" name="Title 1"/>
          <p:cNvSpPr/>
          <p:nvPr/>
        </p:nvSpPr>
        <p:spPr>
          <a:xfrm>
            <a:off x="457200" y="4475160"/>
            <a:ext cx="8220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14779"/>
                </a:solidFill>
                <a:latin typeface="Sassoon Infant Rg"/>
                <a:ea typeface="Sassoon Infant Rg"/>
              </a:rPr>
              <a:t>In this example ‘after’ is used as a preposition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</a:t>
            </a: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The Tricky Bits</a:t>
            </a:r>
            <a:endParaRPr b="0" lang="en-US" sz="24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4-08T12:32:12Z</dcterms:modified>
  <cp:revision>139</cp:revision>
  <dc:subject/>
  <dc:title>Geography</dc:title>
</cp:coreProperties>
</file>